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420A-3095-4196-8816-2844ADBA4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A66A-2EA5-4B48-BF8D-EABF21AB7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B350-C270-4AD0-B7F7-2F908359E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7B67-4CE3-4E34-944E-DED71B2CB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7761-CF2B-4E25-9C46-6C2345ED0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EF63-B0A7-4E39-A69A-321B8F4A1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C566-3935-42D2-AF9E-216DADD57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E20-2BC2-4C99-8FE3-29D1A51C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6F0-A6E2-4188-B892-20455AF7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7E1-70CE-477E-B8C8-8CC20734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403-676E-4C13-A9B8-07F12AE8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CB6F-02CF-4329-B842-FA17BDFC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ADE7-835D-4B8D-A4EE-75EB8398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659F-C383-4C9D-8F72-507A7F37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F3B1-85CB-443E-901A-90E363A6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B9B4-0B1B-42F8-8A65-FF07E46B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D36F-1FEC-4795-B72E-F179D4C4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F625-DEDD-4D38-91F3-AF9BC22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367-DB9B-4325-B301-37E4E3D1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6425-CCED-4823-94F9-3F80326A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D433-A79A-4028-8924-4F2313E5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9CF0-D589-4189-96BB-BA432F53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FC3C-456C-416E-BA9A-302DAD67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A9F0-4AE2-4853-A3BA-374ADC7C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F5FE-616B-474D-838F-E19D7A25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6DFB8-A3B7-4F8D-B0EE-43592494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551B-E75C-4F94-B21B-5D9C2E4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4386-FB23-46B5-B87B-90AA438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C720-05F9-4759-8698-4A4D423C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5F7-58DA-477D-A2C4-A0CBF65B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C353-CBC0-425A-B028-6EEBF182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C5B0-9930-40E0-98C6-3FAA2B9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A290-3ECF-418E-B998-0C517DA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3B8C-4B44-439D-A5F2-BC1F19BB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23DF5-157E-4F96-A37E-1A75D4AB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73B8D-D158-48EF-8CB7-41A76D7E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6E77-0019-4DF1-8141-04125DE4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0A89-6EDF-4EB7-A30C-54B001CD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2FDD3-FE1D-4EED-9BA6-B1EE5C3D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86CA-85C9-46DB-844B-741FCDD8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4B7-A6E6-4DA3-9404-58B12817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A79D2-D71A-4609-8F19-1276FB47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9B68F-8CB9-49DE-9126-14E4C316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5A989-20FC-4B1F-8AA7-D1E90227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D9E20-D5C1-4830-B8FC-E0E299A8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F5159-3413-4B7A-AD5A-09151035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7E9B8-51ED-47EB-827F-DDFADF51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C5693-8F34-4F01-9456-88AD36BF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518EA-88FF-431C-8AEF-4B54AA5D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B3312-D1DC-4632-B728-95B3BBC8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14F48-737B-4EA6-A854-BC4DE929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FB6-4B04-4DD0-B569-F7D07AB6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67861-2D77-4A8A-A679-154CE453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C1218-083B-47A6-95C4-8FAB12DD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84A4F-2089-4701-843F-3CE5EEA2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6E7DF-C76E-4F47-B587-A9A7917A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FA989-2241-469D-B9EE-B89138A1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F8DE5-2AC2-4DD1-8991-EF473584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315D6-BF72-47FE-B5A0-B7084751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2A61-E1D1-4A10-B67D-157B4A17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D1F34-118E-44A4-9854-E64EA31D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00F3-7C56-4770-8D9A-C28DA70E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C88-8DCF-4214-901A-9E993DC0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57C4A-83D5-4196-8CC5-A1EE407A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064A0-D62D-4913-9339-D93F3159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1A998-BE1A-4AE2-8F69-123738B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8F4FB-D7EF-40D9-9E93-55106A1F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4A147-2805-43F7-9769-DBD3BB6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1BF6D-07C0-4D26-93AA-406F936E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DBD8-88E6-47A4-8F08-9E119B75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688E8-D909-453B-B129-D2C1E67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B2830-D583-4D2F-A88A-F14D7ADA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0722B-F6C0-4E3A-9124-635DA139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E2E-9D5D-4721-969F-44337703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0FF88-A4B1-44D9-9C2D-95403DDE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B68B-2FB6-415C-AA21-E90714F8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99BCD-A64E-45D6-8BF9-CFC24259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A7C81-8310-4E93-BBC2-610CDF9B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805F1-8E9A-47A0-BA9E-3D04895A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50588-3BC1-434E-9355-91A09F56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7BE69-1C44-44A8-9F37-57D0FCE4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BDAD6-E2A0-4709-A4B0-21117AC9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C353F-D3BB-4A9B-AB5A-916938AF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EB586-8949-44E4-AFF1-3E907A64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BFD-0838-4DBC-97E4-1D13007C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89C69-C3B5-4E94-AD2C-AB6F2E3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66407-3506-4FDE-96FD-EE98A27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31F92-5A90-48D4-B8BE-4E258F07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DD8E-C2EC-494B-895E-21BBF103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8A28A-4FF8-4570-8C89-A41E5B86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B8D-5626-450A-A10D-C984923F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550C-FF98-4D9B-BE68-A9CB76B5A45F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CF06-550E-43D2-A218-D8B59A0FC5B8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6f4f9">
              <a:alpha val="33000"/>
            </a:srgbClr>
          </a:solidFill>
          <a:ln cap="rnd" w="3240">
            <a:solidFill>
              <a:srgbClr val="ab9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8e0f2"/>
            </a:solidFill>
            <a:miter/>
          </a:ln>
          <a:effectLst>
            <a:outerShdw dist="12600" dir="5400000" blurRad="0" rotWithShape="0">
              <a:srgbClr val="938b9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7B0E-7731-4BD8-8962-D783522FAE56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1DC5-444F-45F7-9009-5A4CC5A04DC7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b5a35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F335-E55D-4DA4-BE93-95328D4BC34D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6830-0CC2-4E7A-9043-30ACB2024E99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DFD3-4E13-430E-8AB7-6CDD1EE3FF2B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6ACD-9B8E-406B-8A3A-CFBA99820CC9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05c64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F38C-0276-4F87-A5AA-3ACBA8388411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0818-9EF8-4FD9-9ADB-6EACF9447676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50EB-246F-40C5-9DCF-A6C167DA5282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8DFC-C779-4D49-AA33-5E3862A6AC4E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fb2c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9c2d1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9cb08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6bb1c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6585c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F86C-6A84-4188-ABCD-8D9B3FB7A2E0}" type="datetime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388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8484-663B-4574-9DFB-76FA9C75838F}" type="slidenum">
              <a:rPr b="0" lang="en-US" sz="1200" spc="-1" strike="noStrike">
                <a:solidFill>
                  <a:srgbClr val="93889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C:\Users\Carol Cram\AppData\Local\Microsoft\Windows\Temporary Internet Files\Content.IE5\WBW9IZ4R\MPj04221900000[1].jpg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The Right Fi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Gill Sans MT"/>
              </a:rPr>
              <a:t>Company Overvie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383d"/>
                </a:solidFill>
                <a:latin typeface="Gill Sans MT"/>
              </a:rPr>
              <a:t>Cassand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Overview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any Descrip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quipment and Fitness Clas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pansion Pla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Company Description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ight Fit operates a 20,000 square foot state-of-the-art gym and fitness facility in San Diego, California. A team of highly motivated trainers provides personalized fitness assessments, develops training programs, and leads fitness classes seven days a wee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Equipment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eadmi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tionary Bicyc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lliptical Train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ble and Hammer Streng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C:\Documents and Settings\cblount\Local Settings\Temporary Internet Files\Content.IE5\FPMT7AYA\MC900433876[1].png"/>
          <p:cNvPicPr/>
          <p:nvPr/>
        </p:nvPicPr>
        <p:blipFill>
          <a:blip r:embed="rId1"/>
          <a:stretch/>
        </p:blipFill>
        <p:spPr>
          <a:xfrm>
            <a:off x="5132520" y="4133880"/>
            <a:ext cx="3663720" cy="2663640"/>
          </a:xfrm>
          <a:prstGeom prst="rect">
            <a:avLst/>
          </a:prstGeom>
          <a:ln w="0">
            <a:noFill/>
          </a:ln>
        </p:spPr>
      </p:pic>
      <p:sp>
        <p:nvSpPr>
          <p:cNvPr id="33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Fitness Classes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p Aerobic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w Impact Dan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dio Boot Cam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w Impact Mil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retch and Streng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ila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Footer Placeholder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9666e"/>
                </a:solidFill>
                <a:latin typeface="Gill Sans MT"/>
              </a:rPr>
              <a:t>Expansion Plans</a:t>
            </a:r>
            <a:endParaRPr b="0" lang="en-US" sz="4300" spc="-1" strike="noStrike">
              <a:solidFill>
                <a:srgbClr val="69666e"/>
              </a:solidFill>
              <a:latin typeface="Gill Sans MT"/>
            </a:endParaRPr>
          </a:p>
        </p:txBody>
      </p:sp>
      <p:pic>
        <p:nvPicPr>
          <p:cNvPr id="342" name="Content Placeholder 3" descr=""/>
          <p:cNvPicPr/>
          <p:nvPr/>
        </p:nvPicPr>
        <p:blipFill>
          <a:blip r:embed="rId1"/>
          <a:stretch/>
        </p:blipFill>
        <p:spPr>
          <a:xfrm>
            <a:off x="1414440" y="1359000"/>
            <a:ext cx="7540560" cy="4895640"/>
          </a:xfrm>
          <a:prstGeom prst="rect">
            <a:avLst/>
          </a:prstGeom>
          <a:ln w="0">
            <a:noFill/>
          </a:ln>
        </p:spPr>
      </p:pic>
      <p:sp>
        <p:nvSpPr>
          <p:cNvPr id="343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3889f"/>
                </a:solidFill>
                <a:latin typeface="Gill Sans MT"/>
              </a:rPr>
              <a:t>The right fit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5:46:28Z</dcterms:created>
  <dc:creator>Carol M. Cram</dc:creator>
  <dc:description/>
  <dc:language>en-US</dc:language>
  <cp:lastModifiedBy> </cp:lastModifiedBy>
  <dcterms:modified xsi:type="dcterms:W3CDTF">2011-03-17T19:49:43Z</dcterms:modified>
  <cp:revision>13</cp:revision>
  <dc:subject/>
  <dc:title>The Right Fit</dc:title>
</cp:coreProperties>
</file>